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9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5.gif" ContentType="image/gif"/>
  <Override PartName="/ppt/media/image4.png" ContentType="image/png"/>
  <Override PartName="/ppt/media/image24.png" ContentType="image/pn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A050-4093-4A0F-B60B-4576189CF3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8BF2-C51D-432F-94C5-E940FA268B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8183-90DC-4579-A313-40662684E8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91E-8F31-40D0-AF7E-462D0438DB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6E1-B555-4A19-8C5F-5786C78F37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C6C-FE79-4F08-A8C6-82CA35CC76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531-50FF-40DD-9BC3-D3FC5B8AE7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7FF-02AF-47FB-AECD-E0F4983BCB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0214-E763-406E-8A46-2A9C04C738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1644-CEA5-485C-9083-AA565FD526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F4C5-9A0E-4E00-8042-0860F1E35F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EDA-451A-4AF4-8A7F-BC2090CDEC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8CE6-F0AC-49D5-B670-3652D95A63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9B5D-9776-4FDE-BEFC-BD8B3219D91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1A8-C2E4-42EE-BEF3-64A57E7151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31EC-20AC-4F50-8F2A-9B1459789F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298-BC18-40B4-9C90-5EFB2F101A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26E0-78D5-4D52-AF9B-B0564CDA5C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6D53-2C52-45F8-84AF-6BD57FE9A6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98F-D3B4-4793-9A38-ECAAE3B4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4EB-3CE4-4E76-8074-8B272A9C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929-B4EE-4F63-8D5A-3093220C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FB9-D447-41A3-9674-CBE4C732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8E58-9E8B-4EF1-B837-15CF9F65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4974-959C-4F3F-8666-D6AB29C3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CD5C-A565-4702-9110-69D763C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6478-8F5C-4A4F-A63A-0FDB1C47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6954-1E0D-421C-9B1C-A09A1DA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9B7B-E1CE-4BB0-9487-8B5E0B09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479-BD7F-4BEB-BDC9-FDB2E1EA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BD2-F4A9-4A84-9ADA-31664B40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8342-CDEC-448C-9DE3-B8239796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646D-4F04-4FF9-B12E-1A62577E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DBBF-967E-46EC-ADD8-BD544910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E47-EDF9-425F-A9F4-8656B260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82DE-BE04-4488-A874-B6198F3B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242-A650-4938-B669-2BEBC54B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2E3-E388-4931-B8BC-30F49F5A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253-CAB6-4FB2-88F1-3E22FBC1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C82-37A4-45EF-BC2D-6F42437B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3ED-06AB-45ED-9F2D-5F7A3B8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208-F693-4512-8FC5-AC8D47D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9FD-DC64-4C0A-8B83-3B66AE35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760" y="368136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040"/>
              <a:ext cx="88920" cy="18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4936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760" y="478944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120"/>
              <a:ext cx="88920" cy="18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4936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760" y="579924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49920"/>
              <a:ext cx="88920" cy="18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4936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960" y="419904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49720"/>
              <a:ext cx="88920" cy="18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356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960" y="530712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7800"/>
              <a:ext cx="88920" cy="18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356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960" y="635796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8640"/>
              <a:ext cx="88920" cy="18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356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31" name="未知"/>
            <p:cNvSpPr/>
            <p:nvPr/>
          </p:nvSpPr>
          <p:spPr>
            <a:xfrm>
              <a:off x="7041600" y="-6480"/>
              <a:ext cx="2101680" cy="1912320"/>
            </a:xfrm>
            <a:custGeom>
              <a:avLst/>
              <a:gdLst>
                <a:gd name="textAreaLeft" fmla="*/ 0 w 2101680"/>
                <a:gd name="textAreaRight" fmla="*/ 2102040 w 2101680"/>
                <a:gd name="textAreaTop" fmla="*/ 0 h 1912320"/>
                <a:gd name="textAreaBottom" fmla="*/ 1912680 h 19123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0"/>
                <a:ext cx="383760" cy="1429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5600"/>
                  <a:gd name="textAreaBottom" fmla="*/ 2055960 h 205560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6240"/>
                <a:ext cx="185400" cy="2152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3400" y="1055520"/>
                <a:ext cx="163800" cy="2869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2240" y="477360"/>
                <a:ext cx="534960" cy="2412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3520"/>
                <a:ext cx="383760" cy="392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608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160" y="750960"/>
                <a:ext cx="301680" cy="1810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1800"/>
                <a:ext cx="325080" cy="14148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644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6680" y="1158120"/>
                <a:ext cx="442440" cy="1108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7880" y="1247400"/>
                <a:ext cx="455040" cy="36468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4520" y="1101240"/>
                <a:ext cx="258480" cy="65124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1240"/>
                  <a:gd name="textAreaBottom" fmla="*/ 651600 h 65124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9EA-36B6-482F-A3B8-F5B407DDF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4760" cy="51084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90920" cy="82908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7440" cy="77148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F68-D34C-42FB-9504-A83F0B1E8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MCj0355425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2484360" y="76500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4"/>
          <p:cNvSpPr txBox="1"/>
          <p:nvPr/>
        </p:nvSpPr>
        <p:spPr>
          <a:xfrm>
            <a:off x="2362320" y="228600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第一课  爱在屋檐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3" name="WordArt 5"/>
          <p:cNvSpPr txBox="1"/>
          <p:nvPr/>
        </p:nvSpPr>
        <p:spPr>
          <a:xfrm>
            <a:off x="1835280" y="3429000"/>
            <a:ext cx="53337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第一框   我知我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26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WordArt 3"/>
          <p:cNvSpPr txBox="1"/>
          <p:nvPr/>
        </p:nvSpPr>
        <p:spPr>
          <a:xfrm>
            <a:off x="250920" y="260280"/>
            <a:ext cx="201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宋体"/>
              </a:rPr>
              <a:t>第三环节：书中寻理</a:t>
            </a:r>
            <a:endParaRPr b="0" lang="en-US" sz="40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pic>
        <p:nvPicPr>
          <p:cNvPr id="548" name="Picture 4" descr="1"/>
          <p:cNvPicPr/>
          <p:nvPr/>
        </p:nvPicPr>
        <p:blipFill>
          <a:blip r:embed="rId2"/>
          <a:stretch/>
        </p:blipFill>
        <p:spPr>
          <a:xfrm>
            <a:off x="468360" y="836640"/>
            <a:ext cx="3816360" cy="2749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4427640" y="83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美国某城市，一个醉汉躺在街头，警察把他扶起来，认出他是当地的富豪。警察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送你回家吧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？我没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警察指着远处的一幢别墅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不是你的家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豪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的房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6" descr="2"/>
          <p:cNvPicPr/>
          <p:nvPr/>
        </p:nvPicPr>
        <p:blipFill>
          <a:blip r:embed="rId3"/>
          <a:stretch/>
        </p:blipFill>
        <p:spPr>
          <a:xfrm>
            <a:off x="4859280" y="3789360"/>
            <a:ext cx="3960720" cy="28400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324000" y="393372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国内战期间，一个中年男子与家人离散，几十个亲人丧生。后来，他打听到五岁的小女儿还活着，几经周折，冒死找到自己的亲生骨肉。悲喜交集的他紧紧地搂着女儿，泪流满面地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又有家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3952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上述关于家的故事，结合下面有关家的说法，你能说说家是什么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地域"/>
          <p:cNvPicPr/>
          <p:nvPr/>
        </p:nvPicPr>
        <p:blipFill>
          <a:blip r:embed="rId1"/>
          <a:stretch/>
        </p:blipFill>
        <p:spPr>
          <a:xfrm>
            <a:off x="1042920" y="1268280"/>
            <a:ext cx="1079640" cy="7477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4"/>
          <p:cNvSpPr/>
          <p:nvPr/>
        </p:nvSpPr>
        <p:spPr>
          <a:xfrm>
            <a:off x="2195640" y="1557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是地域——“我的家在某省某县某镇某村。”</a:t>
            </a:r>
            <a:r>
              <a:rPr b="0" lang="zh-CN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5" descr="住所"/>
          <p:cNvPicPr/>
          <p:nvPr/>
        </p:nvPicPr>
        <p:blipFill>
          <a:blip r:embed="rId2"/>
          <a:stretch/>
        </p:blipFill>
        <p:spPr>
          <a:xfrm>
            <a:off x="1042920" y="2205000"/>
            <a:ext cx="1081080" cy="669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6"/>
          <p:cNvSpPr/>
          <p:nvPr/>
        </p:nvSpPr>
        <p:spPr>
          <a:xfrm>
            <a:off x="2195640" y="24210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住所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——“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那座房子就是我家。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人群"/>
          <p:cNvPicPr/>
          <p:nvPr/>
        </p:nvPicPr>
        <p:blipFill>
          <a:blip r:embed="rId3"/>
          <a:stretch/>
        </p:blipFill>
        <p:spPr>
          <a:xfrm>
            <a:off x="1042920" y="3068640"/>
            <a:ext cx="1081080" cy="7714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8"/>
          <p:cNvSpPr/>
          <p:nvPr/>
        </p:nvSpPr>
        <p:spPr>
          <a:xfrm>
            <a:off x="2195640" y="335772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人群集合体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——“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八年级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班是我家。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9" descr="好朋友"/>
          <p:cNvPicPr/>
          <p:nvPr/>
        </p:nvPicPr>
        <p:blipFill>
          <a:blip r:embed="rId4"/>
          <a:stretch/>
        </p:blipFill>
        <p:spPr>
          <a:xfrm>
            <a:off x="1042920" y="4005360"/>
            <a:ext cx="1081080" cy="77148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"/>
          <p:cNvSpPr/>
          <p:nvPr/>
        </p:nvSpPr>
        <p:spPr>
          <a:xfrm>
            <a:off x="2124000" y="414972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是好朋友——“小刚是我最好的朋友，我们两个是一家人。”</a:t>
            </a:r>
            <a:r>
              <a:rPr b="0" lang="zh-CN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1" descr="吃饭"/>
          <p:cNvPicPr/>
          <p:nvPr/>
        </p:nvPicPr>
        <p:blipFill>
          <a:blip r:embed="rId5"/>
          <a:stretch/>
        </p:blipFill>
        <p:spPr>
          <a:xfrm>
            <a:off x="1042920" y="4941720"/>
            <a:ext cx="1081080" cy="76068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12"/>
          <p:cNvSpPr/>
          <p:nvPr/>
        </p:nvSpPr>
        <p:spPr>
          <a:xfrm>
            <a:off x="2124000" y="522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吃饭的地方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——“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回家吃饭喽。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3" descr="框"/>
          <p:cNvPicPr/>
          <p:nvPr/>
        </p:nvPicPr>
        <p:blipFill>
          <a:blip r:embed="rId6"/>
          <a:stretch/>
        </p:blipFill>
        <p:spPr>
          <a:xfrm>
            <a:off x="971640" y="5877000"/>
            <a:ext cx="1152360" cy="7617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4"/>
          <p:cNvSpPr/>
          <p:nvPr/>
        </p:nvSpPr>
        <p:spPr>
          <a:xfrm>
            <a:off x="2124000" y="602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" y="1981080"/>
            <a:ext cx="85345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家庭是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结合成的亲属生活组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家庭关系的确立有哪几种情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现代家庭结构的类型分别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类，你的家庭属于哪一种类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2895480" y="1843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婚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4788000" y="182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血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6732720" y="182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收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4427640" y="4437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联合家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1143000" y="3352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结婚  出生  收养  随父（母）再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324000" y="44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核心家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2484360" y="4437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主干家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516720" y="443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单亲家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971640" y="321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2c5"/>
                </a:solidFill>
                <a:latin typeface="Times New Roman"/>
              </a:rPr>
              <a:t>请你用一个比喻句描述你对“家”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838080" y="2514600"/>
            <a:ext cx="731520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庭是由婚姻关系、血缘关系或收养关系结合成的亲属生活组织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庭关系包括婚姻关系、血缘关系、收养关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wend6"/>
          <p:cNvPicPr/>
          <p:nvPr/>
        </p:nvPicPr>
        <p:blipFill>
          <a:blip r:embed="rId2"/>
          <a:stretch/>
        </p:blipFill>
        <p:spPr>
          <a:xfrm>
            <a:off x="6553080" y="4800600"/>
            <a:ext cx="167652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26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WordArt 3"/>
          <p:cNvSpPr txBox="1"/>
          <p:nvPr/>
        </p:nvSpPr>
        <p:spPr>
          <a:xfrm>
            <a:off x="1258920" y="2565360"/>
            <a:ext cx="67611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二、与父母的关系不可选择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26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228600" y="380880"/>
            <a:ext cx="201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宋体"/>
              </a:rPr>
              <a:t>第四环节：请你参与</a:t>
            </a:r>
            <a:endParaRPr b="0" lang="en-US" sz="40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pic>
        <p:nvPicPr>
          <p:cNvPr id="581" name="Picture 4" descr="MCj0355425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861080" y="-25560"/>
            <a:ext cx="4267080" cy="31989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1295280" y="307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愿意“选择什么样的父母”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6"/>
          <p:cNvSpPr txBox="1"/>
          <p:nvPr/>
        </p:nvSpPr>
        <p:spPr>
          <a:xfrm>
            <a:off x="380880" y="16765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实话实说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08040" y="364500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都希望有一个优越的家庭环境，优秀的父母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甚至听出个别同学嫌家长没本事、嫌家穷，有存在嫌弃自己父母的心理，那么，我们与父母的亲情会不会因家境状况、父母的地位甚至父母的缺陷而改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6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1547640" y="76500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4"/>
          <p:cNvSpPr txBox="1"/>
          <p:nvPr/>
        </p:nvSpPr>
        <p:spPr>
          <a:xfrm>
            <a:off x="304920" y="2286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看资料，说道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91440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洪战辉的事迹告诉我们一个什么道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52280" y="5759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贫出孝子、寒门出才子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所诞生的家庭是不可选择的，但是人们可以选择的是改变家庭现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4038480" y="365040"/>
            <a:ext cx="4648320" cy="2241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洪战辉，湖南怀化学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学生，中南大学在读大学生。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那年家庭突发重大变故：亲妹妹死了，父亲疯了，父亲又捡回一个遗弃女婴，母亲和弟弟后来也相继离家出走。洪战辉稚嫩的肩膀过早地挑起了生活的重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读高中时，洪战辉就把这个和自己并没有血缘关系的妹妹带在身边，一边读书一边照顾年幼的妹妹，靠做点小生意和打零工来维持生活，并把妹妹带到自己上大学的异地他乡上学。如今已经照顾妹妹整整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他被评为感动中国十大人物之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8" descr="洪战辉"/>
          <p:cNvPicPr/>
          <p:nvPr/>
        </p:nvPicPr>
        <p:blipFill>
          <a:blip r:embed="rId2"/>
          <a:stretch/>
        </p:blipFill>
        <p:spPr>
          <a:xfrm>
            <a:off x="468360" y="692280"/>
            <a:ext cx="324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971640" y="321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2c5"/>
                </a:solidFill>
                <a:latin typeface="Times New Roman"/>
              </a:rPr>
              <a:t>请你用一个比喻句描述你对“家”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826920" y="1916280"/>
            <a:ext cx="762012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父母赚钱不容易，为了撑起一个幸福、温馨的家庭，爸爸妈妈努力工作；父母养育我们不容易，爸爸妈妈为了我们，一方面努力工作，一方面对我们的成长倾注着他们的爱。我们还有什么理由嫌弃父母、抱怨父母呢？我们当务之急所要做的就是好好学习，努力拼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wend6"/>
          <p:cNvPicPr/>
          <p:nvPr/>
        </p:nvPicPr>
        <p:blipFill>
          <a:blip r:embed="rId2"/>
          <a:stretch/>
        </p:blipFill>
        <p:spPr>
          <a:xfrm>
            <a:off x="6553080" y="4800600"/>
            <a:ext cx="167652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26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985080" cy="5354640"/>
          </a:xfrm>
          <a:prstGeom prst="rect">
            <a:avLst/>
          </a:prstGeom>
          <a:ln w="0">
            <a:noFill/>
          </a:ln>
        </p:spPr>
      </p:pic>
      <p:sp>
        <p:nvSpPr>
          <p:cNvPr id="597" name="WordArt 4"/>
          <p:cNvSpPr txBox="1"/>
          <p:nvPr/>
        </p:nvSpPr>
        <p:spPr>
          <a:xfrm>
            <a:off x="228600" y="380880"/>
            <a:ext cx="201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宋体"/>
              </a:rPr>
              <a:t>第五环节：填写家庭树</a:t>
            </a:r>
            <a:endParaRPr b="0" lang="en-US" sz="40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53964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想一想：自己的家庭属于什么类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的家庭（或家族）成员有什么住的称道的地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你的家庭（或家族）中，有什么好的家风和传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26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WordArt 3"/>
          <p:cNvSpPr txBox="1"/>
          <p:nvPr/>
        </p:nvSpPr>
        <p:spPr>
          <a:xfrm>
            <a:off x="1403280" y="2565360"/>
            <a:ext cx="620388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一、家庭关系的建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26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WordArt 3"/>
          <p:cNvSpPr txBox="1"/>
          <p:nvPr/>
        </p:nvSpPr>
        <p:spPr>
          <a:xfrm>
            <a:off x="228600" y="838080"/>
            <a:ext cx="201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宋体"/>
              </a:rPr>
              <a:t>第一环节  家的憧憬</a:t>
            </a:r>
            <a:endParaRPr b="0" lang="en-US" sz="40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18" name="WordArt 4"/>
          <p:cNvSpPr txBox="1"/>
          <p:nvPr/>
        </p:nvSpPr>
        <p:spPr>
          <a:xfrm>
            <a:off x="152280" y="152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新课教学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19" name="Picture 5" descr="BZDH083"/>
          <p:cNvPicPr/>
          <p:nvPr/>
        </p:nvPicPr>
        <p:blipFill>
          <a:blip r:embed="rId5"/>
          <a:stretch/>
        </p:blipFill>
        <p:spPr>
          <a:xfrm>
            <a:off x="0" y="609480"/>
            <a:ext cx="2209680" cy="74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图片一jsp8s011108001"/>
          <p:cNvPicPr/>
          <p:nvPr/>
        </p:nvPicPr>
        <p:blipFill>
          <a:blip r:embed="rId6"/>
          <a:stretch/>
        </p:blipFill>
        <p:spPr>
          <a:xfrm>
            <a:off x="1371600" y="137160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7"/>
          <p:cNvSpPr/>
          <p:nvPr/>
        </p:nvSpPr>
        <p:spPr>
          <a:xfrm>
            <a:off x="8061480" y="2895480"/>
            <a:ext cx="549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8"/>
          <p:cNvSpPr txBox="1"/>
          <p:nvPr/>
        </p:nvSpPr>
        <p:spPr>
          <a:xfrm rot="5400000">
            <a:off x="6850080" y="3665520"/>
            <a:ext cx="2835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家是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26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图片二jsp8s011108002"/>
          <p:cNvPicPr/>
          <p:nvPr/>
        </p:nvPicPr>
        <p:blipFill>
          <a:blip r:embed="rId3"/>
          <a:stretch/>
        </p:blipFill>
        <p:spPr>
          <a:xfrm>
            <a:off x="1371600" y="12193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525" name="WordArt 4"/>
          <p:cNvSpPr txBox="1"/>
          <p:nvPr/>
        </p:nvSpPr>
        <p:spPr>
          <a:xfrm rot="5400000">
            <a:off x="6850080" y="3665520"/>
            <a:ext cx="2835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家是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26" name="Picture 5" descr="PE03254_"/>
          <p:cNvPicPr/>
          <p:nvPr/>
        </p:nvPicPr>
        <p:blipFill>
          <a:blip r:embed="rId6"/>
          <a:stretch/>
        </p:blipFill>
        <p:spPr>
          <a:xfrm>
            <a:off x="228600" y="4572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26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图片三jsp8s011108003"/>
          <p:cNvPicPr/>
          <p:nvPr/>
        </p:nvPicPr>
        <p:blipFill>
          <a:blip r:embed="rId3"/>
          <a:stretch/>
        </p:blipFill>
        <p:spPr>
          <a:xfrm>
            <a:off x="1371600" y="12193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529" name="WordArt 4"/>
          <p:cNvSpPr txBox="1"/>
          <p:nvPr/>
        </p:nvSpPr>
        <p:spPr>
          <a:xfrm rot="5400000">
            <a:off x="6850080" y="3665520"/>
            <a:ext cx="2835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家是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30" name="Picture 5" descr="PE02622_"/>
          <p:cNvPicPr/>
          <p:nvPr/>
        </p:nvPicPr>
        <p:blipFill>
          <a:blip r:embed="rId6"/>
          <a:stretch/>
        </p:blipFill>
        <p:spPr>
          <a:xfrm>
            <a:off x="304920" y="457200"/>
            <a:ext cx="1365120" cy="11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26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6858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句话来描述你心目中的家是什么？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出其中道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图片四jsp8s011108004"/>
          <p:cNvPicPr/>
          <p:nvPr/>
        </p:nvPicPr>
        <p:blipFill>
          <a:blip r:embed="rId3"/>
          <a:stretch/>
        </p:blipFill>
        <p:spPr>
          <a:xfrm>
            <a:off x="1447920" y="1143000"/>
            <a:ext cx="6032520" cy="4835520"/>
          </a:xfrm>
          <a:prstGeom prst="rect">
            <a:avLst/>
          </a:prstGeom>
          <a:ln w="0">
            <a:noFill/>
          </a:ln>
        </p:spPr>
      </p:pic>
      <p:sp>
        <p:nvSpPr>
          <p:cNvPr id="534" name="WordArt 5"/>
          <p:cNvSpPr txBox="1"/>
          <p:nvPr/>
        </p:nvSpPr>
        <p:spPr>
          <a:xfrm rot="5400000">
            <a:off x="6735600" y="3703680"/>
            <a:ext cx="28353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家是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35" name="Picture 6" descr="PE02043_"/>
          <p:cNvPicPr/>
          <p:nvPr/>
        </p:nvPicPr>
        <p:blipFill>
          <a:blip r:embed="rId6"/>
          <a:stretch/>
        </p:blipFill>
        <p:spPr>
          <a:xfrm>
            <a:off x="380880" y="304920"/>
            <a:ext cx="114804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971640" y="321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2c5"/>
                </a:solidFill>
                <a:latin typeface="Times New Roman"/>
              </a:rPr>
              <a:t>请你用一个比喻句描述你对“家”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838080" y="2514600"/>
            <a:ext cx="7315200" cy="106884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是一个地理位置，是我们的生活住所、人群集合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它又不同于这些，它最大的特点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里有亲人，有亲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wend6"/>
          <p:cNvPicPr/>
          <p:nvPr/>
        </p:nvPicPr>
        <p:blipFill>
          <a:blip r:embed="rId2"/>
          <a:stretch/>
        </p:blipFill>
        <p:spPr>
          <a:xfrm>
            <a:off x="6553080" y="4800600"/>
            <a:ext cx="167652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26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WordArt 3"/>
          <p:cNvSpPr txBox="1"/>
          <p:nvPr/>
        </p:nvSpPr>
        <p:spPr>
          <a:xfrm>
            <a:off x="228600" y="380880"/>
            <a:ext cx="201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宋体"/>
              </a:rPr>
              <a:t>第二环节：我说我“家”</a:t>
            </a:r>
            <a:endParaRPr b="0" lang="en-US" sz="40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295280" y="984240"/>
            <a:ext cx="547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家庭成员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荣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入情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家庭的贡献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状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吃什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的朋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高兴的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家的好家风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家的好传统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MCj03554250000[1]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867280" y="304920"/>
            <a:ext cx="3048120" cy="2976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971640" y="321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2c5"/>
                </a:solidFill>
                <a:latin typeface="Times New Roman"/>
              </a:rPr>
              <a:t>请你用一个比喻句描述你对“家”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838080" y="2514600"/>
            <a:ext cx="731520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更加了解我们的父母、更加了解我们家庭的成员，同学们对家也许有了新的理解和认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wend6"/>
          <p:cNvPicPr/>
          <p:nvPr/>
        </p:nvPicPr>
        <p:blipFill>
          <a:blip r:embed="rId2"/>
          <a:stretch/>
        </p:blipFill>
        <p:spPr>
          <a:xfrm>
            <a:off x="6553080" y="4800600"/>
            <a:ext cx="167652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5:16:24Z</dcterms:created>
  <dc:creator/>
  <dc:description/>
  <cp:keywords/>
  <dc:language>en-US</dc:language>
  <cp:lastModifiedBy/>
  <dcterms:modified xsi:type="dcterms:W3CDTF">2014-11-03T17:40:05Z</dcterms:modified>
  <cp:revision>2</cp:revision>
  <dc:subject/>
  <dc:title>幻灯片 1</dc:title>
</cp:coreProperties>
</file>